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CC8-C31C-49FE-A5AB-5894C2BE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2C1-A0E7-409B-83C4-45A5A16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3D8-BD48-4C85-A14F-55AF8A62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7FB-7075-44F3-AD64-3FE9818A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F64-BDC2-4B01-9B6C-D5043F9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D83-2DC4-45D5-A67A-9905A6E9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067-706D-40DE-B849-95D12F7D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AA7-0C2A-436A-BB79-3F42F40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342-7B81-4A57-8E17-6273219C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5AE-5277-4E64-8B39-B0188A6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70C-2924-4629-B7A9-3FE8FF4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18B-E2C3-4C53-B207-6B16651B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CF9-461E-42BA-8E32-BEE77B7A5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07000" y="228600"/>
            <a:ext cx="353700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746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78320" cy="66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74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  Which is more effective (respond after seeing both slide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322520" cy="609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174600"/>
            <a:ext cx="441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 Public Service Announcement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Which is more effective? Wh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1066680"/>
            <a:ext cx="3124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do Americans feel about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24600" y="304920"/>
            <a:ext cx="4019400" cy="594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33520"/>
            <a:ext cx="464832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387036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04920"/>
            <a:ext cx="4038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1960" cy="579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358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352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2128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5720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81360" y="0"/>
            <a:ext cx="5462640" cy="662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4920"/>
            <a:ext cx="3505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do we associate with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81680" cy="6629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0"/>
            <a:ext cx="4496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1:53:06Z</dcterms:created>
  <dc:creator>Stephanie Reed</dc:creator>
  <dc:description/>
  <dc:language>en-US</dc:language>
  <cp:lastModifiedBy>Nvasquez</cp:lastModifiedBy>
  <dcterms:modified xsi:type="dcterms:W3CDTF">2009-11-25T19:29:50Z</dcterms:modified>
  <cp:revision>6</cp:revision>
  <dc:subject/>
  <dc:title>Slide 1</dc:title>
</cp:coreProperties>
</file>